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63CC-3620-4AD2-B5C9-A906DBD00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E34D-A23F-4CC8-9A9A-95D97067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827686-2888-441C-980D-8C94BA18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2DA4A1-D893-41B4-B758-FF20BD42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E98B93-DDA5-4058-B144-8B21C368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0869C-A8EB-4AB5-B750-3B366A1C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1C2D3D-BAF9-44E9-93B7-7B485F67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127313-D599-48AE-88CA-8E36401E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E9A81-6C01-448B-A0EA-58454F58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AB1C5F-D67F-4B79-9A5D-F651F9C74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CF37A1-DD1C-49E5-B1EF-B646699D7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7EAA-9520-488D-A444-7BC77E8CE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7062-D9AC-4987-9904-07989507A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F690-D406-48F5-B462-F1A9F6936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3E51-2005-4698-8986-378B3372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5740-059F-4A16-A5DB-4A34E57E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CE20-CDE8-43FC-AEF5-7A720A76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A924-9E3F-4B47-A74C-D288B851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93700-0F24-4189-AA02-2241B319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7D8AE-A873-4172-999C-EB24116B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1492-15CE-4114-AD74-CA0F4773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E470-C332-4CC7-8630-305E0858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0442-5D52-4235-8194-C6E4D3D7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A0F5-8BDE-4A4A-A389-D21E46D1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9226-AD94-43FC-9C9A-17DD73DE8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BAF1-F284-46D6-AF8F-B0BA9F13A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EC07D-507B-442A-8520-C29855B4F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669FD-999C-43FE-85A8-676E2BF7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C3874-7997-47AC-9A41-9B3A29A1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6F925-1F59-49C1-B03B-79449262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A68F7-08DD-4FE4-9663-F359FE58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3659-A2CC-4E19-85B7-F559E2E2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FDD9C-3EF5-452E-92A3-CFB1C249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569B5-91B9-49B0-BEAB-882D2F67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ED190-1C6B-41B8-BBD1-F8B5E754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93774-D380-466C-8386-5E15DB37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18DF6-5CF4-4C7F-8628-FFDC47A5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87208-6F89-4DB8-9178-539EAEA8A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7BB5A-1378-48B1-8DF4-886360838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9F417-1820-4123-8C45-835DBB507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6EDFF-DAB5-4F0C-9F56-BA1FBF2C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DA027-FC23-452A-BE21-57A0E146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351B-BC45-47B4-B076-1D86FA78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B31FF-0E59-471A-A0AE-2211FAD4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9E80E-CACB-4572-AED2-31449712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21269-64EA-4C84-81BE-B4C2D754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A9EB7-EE06-4092-8E95-387D8AF5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1F34C-C862-4BD9-A1B7-7CDDA1E5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573F6-361D-4518-BB92-34C80A38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A7968-9375-4D73-8C8C-EE114760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A6AA7-993A-416A-8E9E-F52E57249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F2033-796E-4F36-A5FC-E234F48FC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B363D-9E92-43B7-83D5-131A7D8A8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5F60-3507-453E-973F-90E687E6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65508-3A6F-45BE-9ED6-422FA0ED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5E26A-2DDB-4106-B5D0-B9305E17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A21DA-22A9-4F04-9517-054EB9C0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94592-96A6-4973-BBB4-E36A044F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F64E2-4EF1-47C2-B72A-6FA7D669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96BC6-57F1-40ED-9AC1-6217E58F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DB5DF-1EB9-414D-BCC7-C292BC28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131BB-DD4F-4BB2-9376-D5479321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315AB-A2BD-4BC7-B3D8-A9AFC204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D6EFA-A052-4DB6-8BF9-BAC14CCC4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A99F-C0D4-439F-A97F-A31510E7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58941-8DBD-4C5F-B3D0-7EB0599D8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BB793-3973-48DF-AA99-87527A5CE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65C2E-618C-4079-9FCB-FBB5F65E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A7213-6D90-4D3B-AF12-E1FF4258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173A3-49D9-4374-95CD-6E2FA0D8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DCB70-D7A1-4824-86D5-34D76CF2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1A906-9DCD-4A73-A775-443BC648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7AC59-645A-4ECF-BCB7-25E6306D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6BB4C-3D3A-4816-8F53-0570BB5D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97AAE-9F82-4536-8D6D-3CDD3554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A469-47AC-4B38-8459-F7FD473E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50AB8-0D31-43DF-813E-CB08C169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D741A-A313-40F4-8813-330F1B0D1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70CC2-CA68-4916-937F-4663DC89E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A090E-3B87-42EB-80B5-C6F1EC8D5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36E1E-EE44-45E1-A02B-979BDE98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70313-80EA-4430-9484-77A07A22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7851F-2612-4B07-876F-267A6BAC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FEE47-D783-4CF3-8C76-F8845925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32D01-384D-43BD-8DE1-A2182BCB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8D0E9-2805-46E8-B6BC-C8B7040E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B525-78C8-4CFE-9C85-86D405DC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61B25-1BAB-4F72-A316-882DB162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5B3FB-9CFA-45F5-AA00-15DF494C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EE02D-0367-40E4-B265-968DFA98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6024F-8A56-4DE5-8214-DED00EBEF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C27CB-2B8F-4491-8217-558D129CD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3B0E1-4C07-433F-AE86-7F77FACBF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6B6A4-E55B-4997-807B-37770C33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8ACD9-89F2-4342-855C-8CAF0509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89B39-9769-4E48-A024-7CBAE7A4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074C5-B65B-4CA5-8B97-82C425F1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4FB3-C256-4A34-BE0A-93B84B8D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00076-76C3-4D90-B9A5-DCFACCDD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70534-6681-4741-8CA9-66DF7FEE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A929B-C3E6-4E65-BF3A-496D7DDC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3F89C-826F-4F66-80BB-98BB03A4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08DCB-C41D-451D-9564-66A2D9E6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2EAD4-FE90-4A75-950D-DA19D7B45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FC452-3AB7-4556-8ED2-B29FCAB09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919DCB-A496-48AA-BAB3-A2047BD4C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610CF-5459-4A0C-911E-0A39EAE0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08EA5A-4C95-4D32-8DF6-6C16E212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Conector reto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Conector reto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67D5-97CC-4980-889D-04A4D603E16F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Conector reto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Conector reto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Conector reto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Conector reto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Conector reto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Conector reto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C3F2-7C08-410A-AA85-FC09FCDA8100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Conector reto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Conector reto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Conector reto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Conector reto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Conector reto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Conector reto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E217-94D9-43E9-AC28-E635572CDA6E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Conector reto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Conector reto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605A-3A47-4B4C-9AF3-9CE74D3CE45C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Conector reto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Conector reto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8C32-32BB-4D6F-BEA6-0700A8B5EF9E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9B09-424B-44BB-8484-D4F1CBDEA554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Conector reto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Conector reto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2EDD-0793-4412-AB1F-FDD1313AA250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6D71-B62C-4719-A84C-4952A284C42D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4DD5-5A14-402C-BF35-D81656AFB7FF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D:\Meus Documentos\Pictures\moros de camapua.jpg"/>
          <p:cNvPicPr/>
          <p:nvPr/>
        </p:nvPicPr>
        <p:blipFill>
          <a:blip r:embed="rId1"/>
          <a:stretch/>
        </p:blipFill>
        <p:spPr>
          <a:xfrm>
            <a:off x="-47520" y="0"/>
            <a:ext cx="919152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80520" y="4852800"/>
            <a:ext cx="845820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2400" spc="-1" strike="noStrike">
              <a:solidFill>
                <a:srgbClr val="443329"/>
              </a:solidFill>
              <a:latin typeface="Franklin Gothic Book"/>
            </a:endParaRPr>
          </a:p>
        </p:txBody>
      </p:sp>
      <p:pic>
        <p:nvPicPr>
          <p:cNvPr id="402" name="Retângulo 3" descr=""/>
          <p:cNvPicPr/>
          <p:nvPr/>
        </p:nvPicPr>
        <p:blipFill>
          <a:blip r:embed="rId2"/>
          <a:stretch/>
        </p:blipFill>
        <p:spPr>
          <a:xfrm>
            <a:off x="-433440" y="-171360"/>
            <a:ext cx="101869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4e3b30"/>
              </a:solidFill>
              <a:latin typeface="Arial"/>
              <a:ea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0" y="-360"/>
            <a:ext cx="9144000" cy="80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e3b30"/>
                </a:solidFill>
                <a:latin typeface="Arial"/>
                <a:ea typeface="Arial"/>
              </a:rPr>
              <a:t>Utilizar os tablets 10” para responder questionários online ao qual houve previamente verificação do professor para com o conteúdo referido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e3b30"/>
                </a:solidFill>
                <a:latin typeface="Arial"/>
                <a:ea typeface="Arial"/>
              </a:rPr>
              <a:t>O professor pode montar um slide que aborde diversas questões sobre seu conteúdo e disponibilizar o material na pasta da disciplina na STE para que os alunos possam estar respondendo em futuras aulas no espaço da STE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e3b30"/>
                </a:solidFill>
                <a:latin typeface="Arial"/>
                <a:ea typeface="Arial"/>
              </a:rPr>
              <a:t>Trabalho em forma de seminário, dado um tema (roteiro) para o aluno ele elabore uma apresentação para posteriormente realizar a exposição aos colegas e professores esclarecendo o assunto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e3b30"/>
                </a:solidFill>
                <a:latin typeface="Arial"/>
                <a:ea typeface="Arial"/>
              </a:rPr>
              <a:t>Sei que é uma prática antiga mais acontece muito como situação de avaliação,  é a confecção de uma apresentação pelos alunos e posteriormente a apresentação da mesma para o professor (a) e colegas em forma de seminário onde todos participam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e3b30"/>
                </a:solidFill>
                <a:latin typeface="Arial"/>
                <a:ea typeface="Arial"/>
              </a:rPr>
              <a:t>Uma situação de avaliação que alguns colegas vem utilizando é auto-avaliação mais de maneira bem simples e com caráter corretivo, unicamente para os alunos mesmos se policiarem. Acontece aulas de leitura ou declamações com microfone e som e em outras utiliza-se o gravador de maneira que eles mesmos possam verificar e corrigir vícios de linguagen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e3b30"/>
                </a:solidFill>
                <a:latin typeface="Arial"/>
                <a:ea typeface="Arial"/>
              </a:rPr>
              <a:t>O principal item que muitos dos colegas já realizam é o planejamento, sendo que alguns ainda não tem idéia de como podem otimizar sua aula planejando de maneira correta como por exemplo: Levar os alunos na STE com site previamente pesquisado onde abrangerá melhor o conteúdo ou ter olhado nos jogos educacionais e verificar a coerência com o conteúdo, entre outros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e3b30"/>
                </a:solidFill>
                <a:latin typeface="Arial"/>
                <a:ea typeface="Arial"/>
              </a:rPr>
              <a:t>Ainda com relação a STE penso que os professores devem estabelecer critérios para realizar a avaliação como, propor roteiro a ser cumprido (meta) na STE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e3b30"/>
                </a:solidFill>
                <a:latin typeface="Arial"/>
                <a:ea typeface="Arial"/>
              </a:rPr>
              <a:t>Já com os recursos de som e imagem deixar os alunos serem os protagonistas, deixando um pouco de lado a aula expositiva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4T21:38:48Z</dcterms:created>
  <dc:creator>Alessandro</dc:creator>
  <dc:description/>
  <dc:language>en-US</dc:language>
  <cp:lastModifiedBy>Alessandro</cp:lastModifiedBy>
  <dcterms:modified xsi:type="dcterms:W3CDTF">2015-08-24T23:07:07Z</dcterms:modified>
  <cp:revision>12</cp:revision>
  <dc:subject/>
  <dc:title>Slide 1</dc:title>
</cp:coreProperties>
</file>